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B1C6-2F69-4AB1-A4AE-2D7DE08B0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6963-D05C-47BB-A3FA-AED602DFF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ABF6-4EA8-4DAD-8CDB-FFA896D05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475A-2663-47D5-865F-DF8B0A8A9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246CD-FC07-47C6-93B5-FF06D6082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296F3-5F59-4E9A-96E0-4304B3440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F5ECB-97DB-4E9F-8D5E-18D816AA6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26BA1-056D-49A7-92E1-35D3291A8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09E84-F856-427E-8373-447391E51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65862-D163-4DA3-8DDA-E4702BF9F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A1781-D5E3-4D9C-8AB8-69739CE2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5141-8AE5-424A-A1DD-66637E781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DB5B8-1A60-4992-B608-EE3B223F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D6C0A-C3EA-434B-A805-3E83E83A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5EC6E-A9D9-40CD-ABE9-EA93F3C7E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59B01-4D42-4262-B674-5F4E95FAC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F7908-E8BA-4AD8-9D91-AAEF487BD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6BF9-BC40-4228-8BC3-1582C5567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EE4B-63FB-465E-B2B2-535F334E9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0E8D-C507-4300-A51B-1F3F2BE2D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42F0-159B-4A2A-BDDE-27466F37C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EE3C-0BEE-4773-83A1-C475D505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0E27-005D-4A05-99D5-98657EDB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3720-41FC-43AC-A4E7-CFFCAB9B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C5FDC-B16B-4947-828E-F45C2F7B6E4C}" type="slidenum">
              <a:rPr b="0" lang="ar-L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08C9B-773D-45CC-AD72-A09FDD000200}" type="slidenum">
              <a:rPr b="0" lang="ar-L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200" spc="-1" strike="noStrike">
                <a:solidFill>
                  <a:srgbClr val="ffffff"/>
                </a:solidFill>
                <a:latin typeface="Tahoma"/>
                <a:cs typeface="????Boutros Rokaa"/>
              </a:rPr>
              <a:t>لا مثل لك يا إلهي</a:t>
            </a:r>
            <a:endParaRPr b="0" lang="en-US" sz="14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52280" y="0"/>
            <a:ext cx="8991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قَرَعْتُ بَابَكَ بفَرَحٍ فَتَحْتَ ل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طَلَبْتُ السَّعَادَة بوَفْرَةٍ مَنَحْتَن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قَدَّمْتُ لَكَ ذَاتِي بحُنُوٍّ قَبلْتَن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لاَ مِثلَ لَكَ يَا إِلَهِي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مَا أَعْظَمَ انْحِنَاءَكَ عَلَيَّ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مَا أَعْمَقَ نُزُولَكَ إِلَى أَعْمَاق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مَا أَعْذَبَ صَوْتَكَ يَشْفِي جِرَاح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لاَ مِثلَ لَكَ يَا إِلَهِي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لَمْ يَعْرِفْنِي أَحَدٌ مِثلَمَا عَرَفْتَن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لَمْ يَغْمُرْنِي أَحَدٌ مِثلَمَا غَمَرْتَن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لَمْ يَغْفِرْ لِي أَحَدٌ مِثلَمَا غَفَرْتَ ل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لاَ مِثلَ لَكَ يَا إِلَهِي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مَا أَعْظَمَ انْحِنَاءَكَ عَلَيَّ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مَا أَعْمَقَ نُزُولَكَ إِلَى أَعْمَاق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مَا أَعْذَبَ صَوْتَكَ يَشْفِي جِرَاح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لاَ مِثلَ لَكَ يَا إِلَهِي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فِي بُعْدِي عَنْكَ غَرِقْتُ في خَطِيئَت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َسْرَعْتَ إِلَيَّ تَبعْتَ خُطُوَات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َعْطَيْتَنِي حُبَّكَ أَنْعَشْتَ حَيَات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لاَ مِثلَ لَكَ يَا إِلَهِي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مَا أَعْظَمَ انْحِنَاءَكَ عَلَيَّ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مَا أَعْمَقَ نُزُولَكَ إِلَى أَعْمَاق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مَا أَعْذَبَ صَوْتَكَ يَشْفِي جِرَاح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لاَ مِثلَ لَكَ يَا إِلَهِي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06:33:39Z</dcterms:created>
  <dc:creator>Charbel Azar</dc:creator>
  <dc:description/>
  <dc:language>en-US</dc:language>
  <cp:lastModifiedBy>PSE</cp:lastModifiedBy>
  <dcterms:modified xsi:type="dcterms:W3CDTF">2004-03-18T17:06:00Z</dcterms:modified>
  <cp:revision>25</cp:revision>
  <dc:subject/>
  <dc:title>Slide 1</dc:title>
</cp:coreProperties>
</file>